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9E0B-E93D-4B41-A706-783A4BAC6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929F-3EEB-492A-867F-EB7C2A43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840C-810A-4137-BF4D-666159E8E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BBC4-6CD7-4DC9-9D9E-DD21FDFAA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8229-B659-4583-BC99-B29A6984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F786-9DFB-4C0E-9154-1DFB5EBF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93DC-13A2-49BF-B575-91F0CB8B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3D51-2071-4253-8F71-9889B729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F9D9-76D2-4F56-BA06-70628896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DF3D-5F65-4EBE-9F45-A8DB3958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4F15-0E33-4C87-8C93-33204475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4BB9-F0AC-4A60-A9D7-8336D461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0BDD-023D-48EF-A16F-BBA8EFA5A32A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468360" y="87480"/>
            <a:ext cx="8424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We have come together as the family of God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in our Father’s presence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to offer him praise and thanksgiving,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to hear and receive his holy word,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to bring before him the needs of the world,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to ask forgiveness of our sins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nd to seek his grace,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that through his Son Jesus Christ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we may give ourselves to his service.    Amen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9:35:57Z</dcterms:created>
  <dc:creator>sam Denniss</dc:creator>
  <dc:description/>
  <dc:language>en-US</dc:language>
  <cp:lastModifiedBy>sam Denniss</cp:lastModifiedBy>
  <dcterms:modified xsi:type="dcterms:W3CDTF">2012-01-26T21:52:53Z</dcterms:modified>
  <cp:revision>5</cp:revision>
  <dc:subject/>
  <dc:title>Slide 1</dc:title>
</cp:coreProperties>
</file>