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C76-DFB3-478E-BB15-AF7333F8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4C3-9DF4-4F67-BACC-F235780F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89D-3F2D-4A32-B6EC-AD129E4E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5AA-73BA-402F-A6B1-82E4ACC7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961-C08D-4D40-940D-53E74F99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0113-7F18-481B-B4EC-3F8A32AE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4B5-0C63-4743-995E-4374D89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8E3-5C0E-45A6-B26A-56F83F83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118-7F3F-40CB-9CAF-A9814DA3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C6D-9A81-4B9E-A610-C9D7F23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D04-388D-4DAF-872A-0B1F7A8F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4D5-111A-438D-B377-CC5957A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9F11-79D5-4963-B4FF-BF0E8C4C91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ish to be baptized?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ndidate:  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d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68360" y="87480"/>
            <a:ext cx="8424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is the gift of God to his people. In baptism the Lord is adding to our number those whom he is calling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of God, will you welcome these children/candidates and uphold them in their new life in Christ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ith the help of God, we w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68360" y="8748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ptis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hild begins her journey in faith. You speak for her today. Will you pray for h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for he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lp her to take her place within the life and worship of Christ’s Church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arents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ith the help of God, we will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68360" y="87480"/>
            <a:ext cx="842472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decision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aptism, God calls us out of darkness into his marvellous light. To follow Christ means dying to sin and rising to new life with him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 ask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repent of the sins that separate us from God and neighbour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repent of them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turn to Christ as Saviour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turn to Christ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you submit to Chris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submit to Chris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68360" y="87480"/>
            <a:ext cx="8424720" cy="80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igning with the cross</a:t>
            </a:r>
            <a:br>
              <a:rPr sz="2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rist claims you for his ow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the sign of his cros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ashamed to confess the faith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crucified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ght valiantly as a disciple of Chris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gainst sin, the world and the devil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remain faithful to Christ to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d of your life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almighty God deliver you from the powers of darkness, restore in you the image of his glory, and lead you in the light and obedience of Christ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men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68360" y="87480"/>
            <a:ext cx="8424720" cy="79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ayer over the water</a:t>
            </a:r>
            <a:br>
              <a:rPr sz="2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aise God who made heaven and earth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o keeps his promise for ever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t us give thanks to the Lord our God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 is right to give him thanks and praise. </a:t>
            </a:r>
            <a:br>
              <a:rPr sz="32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hank you, almighty God, for the gift of water to sustain, refresh and cleanse all life..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May they walk by the light of fa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inue for ever in the risen life of Jesus Christ our Lord; to whom with you and the Holy Spirit be all honour and glory, now and for 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 Am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8T14:35:05Z</dcterms:modified>
  <cp:revision>11</cp:revision>
  <dc:subject/>
  <dc:title>Slide 1</dc:title>
</cp:coreProperties>
</file>