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77B-AC19-4707-82E0-7197B51E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3E0-903B-4103-BF71-8D216FC4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37D-4287-403B-9C37-ED2B7150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7CA-ADCA-4A0C-BB21-6094B5A6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87B-FEB7-4D31-9F01-43979668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BEB-2104-48EC-80AD-40ADE53C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296-3F16-466C-B2A3-12BA9302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B49-165C-47F1-B197-269A9B9D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004-9760-4B6D-99F8-E39B96C9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5CE-6B15-483A-B2D8-3018D3C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82C-C733-414F-BEF9-B77976F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8F4-A26D-493B-B25B-E44572CE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4F7C-800C-472B-AF05-825F9986ED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68360" y="87480"/>
            <a:ext cx="842472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ord’s Praye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ternal God and Father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 create us by your power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redeem us by your love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uide and strengthen u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y your Spirit, that we may give ourselves in love and servic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one another and to you;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rough Jesus Christ our Lord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men.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35:57Z</dcterms:created>
  <dc:creator>sam Denniss</dc:creator>
  <dc:description/>
  <dc:language>en-US</dc:language>
  <cp:lastModifiedBy>sam Denniss</cp:lastModifiedBy>
  <dcterms:modified xsi:type="dcterms:W3CDTF">2012-01-28T14:24:04Z</dcterms:modified>
  <cp:revision>16</cp:revision>
  <dc:subject/>
  <dc:title>Slide 1</dc:title>
</cp:coreProperties>
</file>