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BBA-4D49-4E9C-93C3-0F63669D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286-CCA2-41F4-8FBF-6467EE40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D48-CD97-41E5-91A6-B9743769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703-E98F-4412-93C5-D2F85B07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8F8-4C27-4C36-B38D-54B558DA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019-D99F-4532-9FDC-B165FCD3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C4F-F2F6-4F86-BF7E-B30B4BC4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A047-79EE-45B3-AD28-C4BA768A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0BA-F15D-4F94-9332-414BA067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081E-2F22-4B60-B94B-EA329892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2F4B-FF41-4717-92FD-155FFBF1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8BF-7227-4C30-A2EF-82F759D5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D0BC-A86D-45FE-B257-0046F4E2C9F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468360" y="87480"/>
            <a:ext cx="842472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We affirm our faith in Go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t us affirm, together with these who are being baptized, our common faith in Jesus Christ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believe and trust in God the Father, source of all being and lif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e for whom we exist?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All: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I believe and trust in him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68360" y="87480"/>
            <a:ext cx="8424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believe and trust in God the Son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took our human natur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d for us and rose again?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I believe and trust in him. 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believe and trust in God the Holy Spirit, who gives life to the people of Go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akes Christ known in the world?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I believe and trust in him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468360" y="8748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faith of the Church.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This is our faith.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We believe and trust in one God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Father, Son and Holy Spiri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35:57Z</dcterms:created>
  <dc:creator>sam Denniss</dc:creator>
  <dc:description/>
  <dc:language>en-US</dc:language>
  <cp:lastModifiedBy>sam Denniss</cp:lastModifiedBy>
  <dcterms:modified xsi:type="dcterms:W3CDTF">2012-01-28T10:02:48Z</dcterms:modified>
  <cp:revision>10</cp:revision>
  <dc:subject/>
  <dc:title>Slide 1</dc:title>
</cp:coreProperties>
</file>