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BEE-1220-4EDD-BB9D-8AE236FB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5B5-19CC-4493-8CBF-6A860CE4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D96-2040-44F3-8B5D-73839920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C69-05C8-4FB7-8BD3-B8C52ED8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C49-D7AB-4FA1-8476-DBFC7A58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D99-103F-4639-96C5-155BD825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52F-235A-4A96-A7DC-EFF10261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879-F5C4-4696-8058-B218B7B2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4C9-17B8-4E81-AC8D-11AE5FE3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FB3-E51F-4955-8E20-355864E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F34-4779-400A-9033-14CCC1E9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E0C-6B4C-47A7-B06E-11C5D4D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11D-26EF-43A5-9F00-F61D167964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ish to be baptized?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andidate:  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do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68360" y="87480"/>
            <a:ext cx="8424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th is the gift of God to his people. In baptism the Lord is adding to our number those whom he is calling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of God, will you welcome these children/candidates and uphold them in their new life in Christ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ith the help of God, we w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68360" y="8748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ptis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children begin thei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ey in faith. You speak for them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. Will you pray for them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for them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elp them to take their place within the life and worship of Christ’s Church.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arents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With the help of God, we will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468360" y="87480"/>
            <a:ext cx="842472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decision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aptism, God calls us out of darkness into his marvellous light. To follow Christ means dying to sin and rising to new life with him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 ask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repent of the sins that separate us from God and neighbour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repent of them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turn to Christ as Saviour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turn to Christ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you submit to Chris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rd?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sponse: </a:t>
            </a: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I submit to Chris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68360" y="87480"/>
            <a:ext cx="8424720" cy="80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igning with the cross</a:t>
            </a:r>
            <a:br>
              <a:rPr sz="2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rist claims you for his own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the sign of his cros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be ashamed to confess the faith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 crucified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ght valiantly as a disciple of Chris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gainst sin, the world and the devil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d remain faithful to Christ to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d of your life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y almighty God deliver you from the powers of darkness, restore in you the image of his glory, and lead you in the light and obedience of Christ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men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468360" y="87480"/>
            <a:ext cx="8424720" cy="79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ayer over the water</a:t>
            </a:r>
            <a:br>
              <a:rPr sz="20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aise God who made heaven and earth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o keeps his promise for ever.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et us give thanks to the Lord our God.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 is right to give him thanks and praise. </a:t>
            </a:r>
            <a:br>
              <a:rPr sz="32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: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hank you, almighty God, for the gift of water to sustain, refresh and cleanse all life..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May they walk by the light of fai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inue for ever in the risen life of Jesus Christ our Lord; to whom with you and the Holy Spirit be all honour and glory, now and for 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ll:  Am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8T14:35:42Z</dcterms:modified>
  <cp:revision>9</cp:revision>
  <dc:subject/>
  <dc:title>Slide 1</dc:title>
</cp:coreProperties>
</file>