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24FF-0B79-403A-8CCB-4CE7E21DF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D02E-13F7-433B-812A-3FFF1F49F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115D-0ED9-47E4-ACF3-41E5F3366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C2F9-8A49-4965-8A95-56E25F50B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EED2-D397-4F86-8589-57DF09827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2080-41BA-4DA5-B5AA-3EC7BB4E6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D74D-5F32-42A0-8238-95EB3F28D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6EA0-E9EB-4094-9C3D-0BE004793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2A31-7206-431C-A118-BC9C33AC4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BA33-51C1-4025-B726-DB713EFD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1100-7CCE-4D9E-9702-C19AE709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70EB-7EA4-4F15-A96E-76CD12AF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FB4AD-A9AE-4C8B-A371-C235F231209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"/>
          <p:cNvSpPr/>
          <p:nvPr/>
        </p:nvSpPr>
        <p:spPr>
          <a:xfrm>
            <a:off x="468360" y="87480"/>
            <a:ext cx="8424720" cy="81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he Lord’s Prayer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r Father in heaven,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allowed be your name,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your kingdom come,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your will be done,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n earth as in heaven.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ive us today our daily bread.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orgive us our sins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s we forgive those who sin against us. Lead us not into temptation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but deliver us from evil.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or the kingdom, the power,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nd the glory are yours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ow and for ever. Amen. 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2T19:35:57Z</dcterms:created>
  <dc:creator>sam Denniss</dc:creator>
  <dc:description/>
  <dc:language>en-US</dc:language>
  <cp:lastModifiedBy>sam Denniss</cp:lastModifiedBy>
  <dcterms:modified xsi:type="dcterms:W3CDTF">2012-01-28T14:23:11Z</dcterms:modified>
  <cp:revision>15</cp:revision>
  <dc:subject/>
  <dc:title>Slide 1</dc:title>
</cp:coreProperties>
</file>