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C4D-E14A-4022-B05F-C005F3A7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C08-76D9-4B96-A2B9-AF1DCAC5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B4E-F9C1-44CB-9E31-1A48DF53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27A-FCAB-4D2E-837C-AC235101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B5B-D3CC-47AA-A078-0C6CBBEC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A4B-F9C1-4BB3-AD77-2AFB8AC3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E5C-2C4E-4C40-9D9C-3CDAA89E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6D5-1C40-4198-B2FB-81CD8066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BB53-9D11-49A6-AD1C-400A68EF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FCB-A48B-4109-BF43-EDFA0CE5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B19-CE0E-487A-B9A6-77C2D659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A53-2EAB-45F9-B258-86639A1B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767A-4AE5-48F2-8960-F3331FEB403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3648240" cy="60721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4071960" y="785880"/>
            <a:ext cx="45720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elcome to the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 Black"/>
              </a:rPr>
              <a:t>&lt;insert church name&gt;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nd the baptism of </a:t>
            </a: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 Black"/>
              </a:rPr>
              <a:t>&lt;insert names&gt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Please stay after the service.  Refreshments are served at the back of church and everyone who needs prayer is welcome in our prayer cor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9:53:26Z</dcterms:created>
  <dc:creator>Sam Denniss</dc:creator>
  <dc:description/>
  <dc:language>en-US</dc:language>
  <cp:lastModifiedBy>Sam Denniss</cp:lastModifiedBy>
  <dcterms:modified xsi:type="dcterms:W3CDTF">2020-10-15T15:42:23Z</dcterms:modified>
  <cp:revision>5</cp:revision>
  <dc:subject/>
  <dc:title>Slide 1</dc:title>
</cp:coreProperties>
</file>