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8458-8BF7-491C-86F8-1C750A0E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B2E-3C7A-42F0-8B11-C150774D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2FC-A9D1-47C4-8B88-89334B8E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41A-D582-4820-9F5E-827547A1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A2E-6B33-4968-85FD-91EA59AA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85D-6296-491E-BCFF-0B64477C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AF4-0896-44BE-974D-D6C99C3E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CFF-0EFA-4965-82D7-43DAF8F5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25ED-E2B3-4983-A7E4-620F83B8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65A-0514-4B15-9994-A21AD73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2DC-F1BD-48F9-A50F-3C971A8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8D1-469F-43E0-AC3F-13E0977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EE3F-7D9E-4F19-9F87-1BB7A8A410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68360" y="87480"/>
            <a:ext cx="842472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ayer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ithful and loving God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ess those who care for these childre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grant them your gifts of love, wisdom and faith. Pour upon them your healing and reconciling love and protect their home from all evil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ll them with the light of your presenc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establish them in the joy of your kingdom, through Jesus Christ our Lord. Amen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68360" y="87480"/>
            <a:ext cx="842472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ayer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od of grace and life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your love you have given u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place among your people;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ep us faithful to our baptism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prepare us for that glorious da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en the whole creation will be made perfect in your Son our Saviour Jesus Christ.      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men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68360" y="87480"/>
            <a:ext cx="8424720" cy="81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ights and Responsibilit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day God has touched you with his love and given you a place among his people. God promises to be with you in joy and sorrow, to be your guide in life and to bring you safely to heaven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baptism God invites you on a life-long journey. Together with all God’s peopl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must explore the way of Jesu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grow in friendship with God,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love for his people,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d in serving others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th us you will listen to the word of God and receive the gifts of God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35:57Z</dcterms:created>
  <dc:creator>sam Denniss</dc:creator>
  <dc:description/>
  <dc:language>en-US</dc:language>
  <cp:lastModifiedBy>sam Denniss</cp:lastModifiedBy>
  <dcterms:modified xsi:type="dcterms:W3CDTF">2012-01-28T14:21:46Z</dcterms:modified>
  <cp:revision>14</cp:revision>
  <dc:subject/>
  <dc:title>Slide 1</dc:title>
</cp:coreProperties>
</file>