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C7A-5AE7-46FA-A3E0-F6229E90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C0B-A5E4-4AE6-A468-0CC10B1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A7E-5540-473B-B0A5-14C93A59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1F7-3686-42A6-BA45-EB6BBBF9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05B-0824-479D-B92A-DD439632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3F0-D54D-4897-B02B-8868329B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AF2-83A3-4C04-B77A-5507A6AB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0F1-F9E7-4847-8BCF-58BD6DD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2DA-F605-4647-A79F-FBDB318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2AC-F630-4522-9587-0B8C0DE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6B9-AD06-40E4-B876-3BEA88C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6A1-0BF9-459B-9CA1-5124A446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369-FBEA-4D55-9D9C-AE2FC5101E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Baptism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 baptize you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name of the Fath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f the So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f the Holy Spirit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Amen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e welcome the newly baptise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one Lord, one faith, one baptism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one Spirit we are all baptized into one body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e welcome you into the fellowship of faith;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e are children of the same heavenly Father;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e welcome you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iving of a lighted candle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God has delivered us from the dominion of darkness and has given us a place with the saints in ligh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received the light of Christ; walk in this light all the days of your life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Shine as a light in the world to the glory of God the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0:17:53Z</dcterms:modified>
  <cp:revision>12</cp:revision>
  <dc:subject/>
  <dc:title>Slide 1</dc:title>
</cp:coreProperties>
</file>