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4FA-D448-4F8A-8ACA-F0A1B46D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D1D0-1DC2-40E0-BA8F-E3B78422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2180-C63A-4FC1-A986-2834DAB7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4C36-1B79-4069-8C30-86D62F85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580-5499-4E85-AF20-C2138459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5033-1FBE-4E78-86B9-9B8D8CD9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121B-608F-446C-A968-3EDC80C8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A5CB-6C18-48C7-9448-659876F9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BA0-83F3-45B2-963C-34EE1984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66C-1761-444F-A2A9-2EF2A707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1DAC-DC41-479E-ABCA-D0187937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9FE3-C56C-4D72-8CBC-D744E509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02F0-15DB-4FA8-B5F4-0398013886F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468360" y="8748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wish to be baptized?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andidate:  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I d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468360" y="87480"/>
            <a:ext cx="84247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th is the gift of God to his people. In baptism the Lord is adding to our number those whom he is calling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of God, will you welcome these children/candidates and uphold them in their new life in Christ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ll: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With the help of God, we wi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468360" y="8748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ptis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hild begins hi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ey in faith. You speak for him today. Will you pray for him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 for him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lp him to take his place within the life and worship of Christ’s Church.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arents: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With the help of God, we will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468360" y="87480"/>
            <a:ext cx="8424720" cy="67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decision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baptism, God calls us out of darkness into his marvellous light. To follow Christ means dying to sin and rising to new life with him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I ask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repent of the sins that separate us from God and neighbour?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sponse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I repent of them.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turn to Christ as Saviour?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sponse: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I turn to Christ.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 you submit to Chris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?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sponse: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I submit to Christ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68360" y="87480"/>
            <a:ext cx="8424720" cy="80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igning with the cross</a:t>
            </a:r>
            <a:br>
              <a:rPr sz="20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rist claims you for his own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 the sign of his cross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be ashamed to confess the faith of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crucified.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ll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ight valiantly as a disciple of Christ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gainst sin, the world and the devil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d remain faithful to Christ to th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d of your life.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y almighty God deliver you from the powers of darkness, restore in you the image of his glory, and lead you in the light and obedience of Christ.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ll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men.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468360" y="87480"/>
            <a:ext cx="8424720" cy="79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ayer over the water</a:t>
            </a:r>
            <a:br>
              <a:rPr sz="20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aise God who made heaven and earth.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ll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o keeps his promise for ever.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et us give thanks to the Lord our God.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ll: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t is right to give him thanks and praise. </a:t>
            </a:r>
            <a:br>
              <a:rPr sz="32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thank you, almighty God, for the gift of water to sustain, refresh and cleanse all life..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May they walk by the light of fai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inue for ever in the risen life of Jesus Christ our Lord; to whom with you and the Holy Spirit be all honour and glory, now and for e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ll:  Am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9:35:57Z</dcterms:created>
  <dc:creator>sam Denniss</dc:creator>
  <dc:description/>
  <dc:language>en-US</dc:language>
  <cp:lastModifiedBy>sam Denniss</cp:lastModifiedBy>
  <dcterms:modified xsi:type="dcterms:W3CDTF">2012-01-28T14:35:23Z</dcterms:modified>
  <cp:revision>10</cp:revision>
  <dc:subject/>
  <dc:title>Slide 1</dc:title>
</cp:coreProperties>
</file>