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22C-F497-43C5-94B1-68B5308A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72D-5BC7-4121-844D-3BF4D321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9E2-7BE8-4506-97DB-1B099988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0F2-6792-4AAF-9069-9D7A4275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CB3-70FF-4E5A-AED3-D61668A9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40C-72A1-45E5-B436-6DBF2529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978-0AF7-43F9-AE11-25BBB31B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1AD-AC17-40C4-8E00-FEEADA4C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5CE-AC31-4CC4-9AB7-5AF7D293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3EB-EB80-4FCA-B29E-B9D4F70F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9F2-6F76-41A1-A1CE-CA30E74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EF6-C253-440E-81B1-C079E4FE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01D0-F6FF-4231-9CBB-041C6693E6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1010074Pota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428760" y="692280"/>
            <a:ext cx="85010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God has called us here this mo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All the world give God your prai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Let us offer him our wo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All the world give God your prai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62520" y="214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God Welcomes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P1010074Pota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428760" y="692280"/>
            <a:ext cx="85010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Let us thank him for his good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All the world give God your prai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Let us ask him to forgive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All the world give God your prai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P1010074Pota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28760" y="692280"/>
            <a:ext cx="85010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Let us learn what he would teach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All the world give God your prai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Let us bring our prayers before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All the world give God your prai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Shout for joy to the Lord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who love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ahoma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S8050118_Potami.jpg"/>
          <p:cNvPicPr/>
          <p:nvPr/>
        </p:nvPicPr>
        <p:blipFill>
          <a:blip r:embed="rId1"/>
          <a:stretch/>
        </p:blipFill>
        <p:spPr>
          <a:xfrm>
            <a:off x="0" y="0"/>
            <a:ext cx="9325080" cy="124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2:55Z</dcterms:created>
  <dc:creator>qq73</dc:creator>
  <dc:description/>
  <dc:language>en-US</dc:language>
  <cp:lastModifiedBy>Sam Denniss</cp:lastModifiedBy>
  <dcterms:modified xsi:type="dcterms:W3CDTF">2012-01-10T13:54:12Z</dcterms:modified>
  <cp:revision>43</cp:revision>
  <dc:subject/>
  <dc:title>Slide 1</dc:title>
</cp:coreProperties>
</file>