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9AC-89D8-4FA0-9FE3-0AF1D6C6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86E-B74E-4BA4-A445-C30B859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7AB-0D75-4A38-87EC-9A336C1E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C45-4AF1-4073-9C9F-08EDE15C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14A-38C4-42E5-B1DF-0552724E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CDE-5B93-4E02-8C34-68F708C2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257-E5ED-406A-965A-BD942E8D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2BF-7E3B-4CD7-831E-EADF07F4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3ED-C29B-496A-934D-ADEC75D9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019-7AF6-4005-9A93-7F79BF6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305-A520-459F-A3BF-982854F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D33-D4AA-47B0-AA1B-8456D60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36DC-706B-45E3-BC66-8EA780CF3E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ilbreClouds1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55640" y="189000"/>
            <a:ext cx="74167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Affirming our fa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Do you believe and trust in God the Father,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source of all being and life,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the one for whom we exist?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I believe and trust in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ilbreClouds1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755640" y="260280"/>
            <a:ext cx="74167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Do you believe and trust in God the Son,   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who took our human nature,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died for us and rose again?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I believe and trust in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ilbreClouds1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260280"/>
            <a:ext cx="74167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Do you believe and trust in God the Holy Spirit,   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who gives life to the People of God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and makes Christ known in the world?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I believe and trust in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ilbreClouds1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2:55Z</dcterms:created>
  <dc:creator>qq73</dc:creator>
  <dc:description/>
  <dc:language>en-US</dc:language>
  <cp:lastModifiedBy>Sam Denniss</cp:lastModifiedBy>
  <dcterms:modified xsi:type="dcterms:W3CDTF">2012-01-10T13:54:38Z</dcterms:modified>
  <cp:revision>42</cp:revision>
  <dc:subject/>
  <dc:title>Slide 1</dc:title>
</cp:coreProperties>
</file>