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5BD9-9D7D-44FF-83DC-0CBCA82B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E66-BF60-450E-B3DB-EEC0B883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111-6967-4247-A5FF-466D78E4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209A-46FB-48DA-B001-98F203F1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E15-02F3-4525-B959-7432742C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F60-A9AF-47CD-B7EA-6E4CA765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F41-AD90-4858-B66F-BFBC50F0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0A9-3BFD-474B-9387-593B2B95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E83F-DFC9-4747-AFD0-C2288DBE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CEA-7447-4B14-B9CD-A43BA746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9BE2-FE10-42F6-93BA-6525B8C6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0F2-BFF1-4F7E-9A2A-E7CE78D2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D9E7-086A-49C3-BC8F-35B5BB02363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8070167_Dolphins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56760" y="571680"/>
            <a:ext cx="835812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Almighty God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we thank you for feeding 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with the body and bloo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of your Son Jesus Chris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Through him we offer you our sou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and bodies to be a living sacrifi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Send us out in the power of your Spir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to live and work to your praise and glory. A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S8070167_Dolphins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56760" y="4071960"/>
            <a:ext cx="83581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Go in peace to love and serve the Lo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In the name of Christ.  A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11:22:55Z</dcterms:created>
  <dc:creator>qq73</dc:creator>
  <dc:description/>
  <dc:language>en-US</dc:language>
  <cp:lastModifiedBy>Sam Denniss</cp:lastModifiedBy>
  <dcterms:modified xsi:type="dcterms:W3CDTF">2012-01-10T13:30:04Z</dcterms:modified>
  <cp:revision>41</cp:revision>
  <dc:subject/>
  <dc:title>Slide 1</dc:title>
</cp:coreProperties>
</file>