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626-F205-4B07-9582-73FC7513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73-5BA9-4FA7-A40C-7CC4780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272-BE26-4BF7-A271-9C6BDCA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6B2-3DF9-438C-A869-471A6EF1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21B-9252-4643-88B4-4B2B9A0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E10-413A-4555-BAD7-16B2A036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BE6-12F6-4F9F-8ED7-A266E60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A56-9870-41B0-9291-CF8A1C04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8A3-F632-4406-8E5A-AAF12AB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1CE-14E3-4F2A-8861-ED8A191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46F-FEA6-4723-BE60-0AD34D8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6CD-DF08-4421-AB58-2C4BBE2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9587-0DE3-4A14-AE2C-0A842C309A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6760" y="92880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Lord is 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is Spirit is with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Lift up your hea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We lift them to the L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Let us give thanks to the Lord our G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It is right to give him thanks and pra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63600" y="2142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The Prayer of Th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56760" y="42876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lmighty God, good father to us all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your face is turned towards your worl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n love you gave us Jesus your S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o rescue us from sin and death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Your word goes out to call us h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o the city where angels sing your prai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We join them in heaven’s so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ly, holy, holy Lor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God of power and m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eaven and earth are full of your gl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6760" y="92880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ather of all we give you than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or every gift that comes from hea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o the darkness Jesus came as your l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With signs of faith and words of ho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e touched untouchables with lo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nd washed the guilty cle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his st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his is our so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56760" y="92880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crowds came out to see your S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yet at the end they turned on h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n the night he was betr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e came to table with his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o celebrate the freedom of your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his st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his is our so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8400" y="642600"/>
            <a:ext cx="8358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Jesus blessed you, Father, for the foo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e took bread, gave thanks, broke it and sa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my body, given for you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Jesus then gave thanks for the win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e took the cup, gave it and sa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my blood, shed for you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or the forgiveness of s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o this in remembrance of 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our 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his is our so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6760" y="928800"/>
            <a:ext cx="835812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refore, Father, with this bread and this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we celebrate the cr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n which he died to set us f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fying death he rose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nd is alive with you to plead for 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nd all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our st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This is our so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8070167_Dolphins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56760" y="499680"/>
            <a:ext cx="8358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nd your Spirit on u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at by these gifts we may feed on Chr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with opened eyes and hearts on fi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ay we and all who share this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ffer ourselves to live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nd be welcomed at your feast in hea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where all creation worships yo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ather, Son and Holy Spir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Blessing and honour and glory and power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be yours for ever and ever.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Arial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54:00Z</dcterms:modified>
  <cp:revision>42</cp:revision>
  <dc:subject/>
  <dc:title>Slide 1</dc:title>
</cp:coreProperties>
</file>