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019-61D9-4860-B1E2-667279B7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BEF-83D3-48A8-98E3-26C6587F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051-261A-444D-93F7-F8687902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3EB-610D-4ED4-A0F5-C31129D9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5E1-011D-492C-9F71-ACB91501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534-9F7B-4BF3-84DB-51A51E97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8F3-3F24-4E27-BF74-08E040EB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97E-4B45-479D-B181-ED872912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11C-F0DC-4BCE-A88E-5267CB06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134-5671-4EFD-9655-8BD6A0F5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357-B15A-4D30-951C-A832DC7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028-8D92-47A7-B100-9427FD4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7E73-9DA5-496F-B6F6-B2F4734CB7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6" descr="MarineLakeP1000312.JPG"/>
          <p:cNvPicPr/>
          <p:nvPr/>
        </p:nvPicPr>
        <p:blipFill>
          <a:blip r:embed="rId1"/>
          <a:stretch/>
        </p:blipFill>
        <p:spPr>
          <a:xfrm>
            <a:off x="0" y="0"/>
            <a:ext cx="9636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57120" y="0"/>
            <a:ext cx="85726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Asking for God’s forg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we have sinned against heaven and against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We are not worthy to be called your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We turn to you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6" descr="MarineLakeP1000312.JPG"/>
          <p:cNvPicPr/>
          <p:nvPr/>
        </p:nvPicPr>
        <p:blipFill>
          <a:blip r:embed="rId1"/>
          <a:stretch/>
        </p:blipFill>
        <p:spPr>
          <a:xfrm>
            <a:off x="0" y="0"/>
            <a:ext cx="963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57120" y="0"/>
            <a:ext cx="857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Have mercy on u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bring us back to yourself as those who were once d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but now have life through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Christ our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A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6" descr="MarineLakeP1000312.JPG"/>
          <p:cNvPicPr/>
          <p:nvPr/>
        </p:nvPicPr>
        <p:blipFill>
          <a:blip r:embed="rId1"/>
          <a:stretch/>
        </p:blipFill>
        <p:spPr>
          <a:xfrm>
            <a:off x="0" y="0"/>
            <a:ext cx="963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1:22:55Z</dcterms:created>
  <dc:creator>qq73</dc:creator>
  <dc:description/>
  <dc:language>en-US</dc:language>
  <cp:lastModifiedBy>Sam Denniss</cp:lastModifiedBy>
  <dcterms:modified xsi:type="dcterms:W3CDTF">2012-01-10T13:54:26Z</dcterms:modified>
  <cp:revision>42</cp:revision>
  <dc:subject/>
  <dc:title>Slide 1</dc:title>
</cp:coreProperties>
</file>