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3B1-FE9B-4BCA-880A-5676BA95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FF2-8249-47CA-B03F-8A10686C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C86-3046-472B-96A3-CD7EDD2A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D37-E9D4-4034-98BC-5C5B281F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BE6-E1D1-4470-9D17-61C7B79C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927-7FCF-44BF-8067-A1EE6767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D8D-50ED-4F94-9FBC-AEB175F8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D22-A696-4FB0-824A-C3741CA8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C28-AFEB-4FA0-91C7-22A58488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1DC-63EB-45DE-9B8F-1C9635AC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F3F-610A-4F27-9D5C-9B931580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5A3-43EB-4BC5-B702-8C57C5AF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8508-1BAB-40CA-8329-728383C347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1010074Pota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468360" y="333360"/>
            <a:ext cx="795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e have come together as the family of God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 our Father’s presence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 offer him praise and thanksgiving,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 hear and receive his holy word,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 bring before him the needs of the world,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 ask his forgiveness of our sins,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to seek his grace,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at through his Son Jesus Christ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e may give ourselves to his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S8050118_Potami.jpg"/>
          <p:cNvPicPr/>
          <p:nvPr/>
        </p:nvPicPr>
        <p:blipFill>
          <a:blip r:embed="rId1"/>
          <a:stretch/>
        </p:blipFill>
        <p:spPr>
          <a:xfrm>
            <a:off x="0" y="0"/>
            <a:ext cx="9325080" cy="124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1:22:55Z</dcterms:created>
  <dc:creator>qq73</dc:creator>
  <dc:description/>
  <dc:language>en-US</dc:language>
  <cp:lastModifiedBy>Sam Denniss</cp:lastModifiedBy>
  <dcterms:modified xsi:type="dcterms:W3CDTF">2012-01-10T13:53:03Z</dcterms:modified>
  <cp:revision>42</cp:revision>
  <dc:subject/>
  <dc:title>Slide 1</dc:title>
</cp:coreProperties>
</file>