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C18-8E46-42D7-A135-A058F2D2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BB7-CC3D-486B-AF6F-5A8E86D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267-D1E0-483B-9033-E5D4F43B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E10-DEA5-41FF-81B3-BBC13F41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CFE5-4728-4865-98AB-E601CF14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098-4604-4232-8C97-84D7724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D71-5B60-4AC2-B0D5-26083F3A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3A6-D417-4475-BB2C-12AA877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91A7-3348-4C02-8B50-2CC6EDEB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1DB7-B21C-40CC-BC7C-E4F57AD7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260-11D1-4280-BEC9-27EA2921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D71-C9D0-4C83-A7FD-38BEB84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31D6-6364-485C-BA00-A69F33B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2DEF-AE6C-4BFC-A323-29CBE4C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3B1-D42C-4AF7-823D-05A785A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DDE-AD5A-4DCA-BDF1-97786CCC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374F-6D37-4B9F-8A94-8C00C77B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C59-78FC-42CA-AC53-F896E67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1D1-88D7-487F-A2CE-F65483A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578-ABB5-424B-A76E-FC202A0F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8E8-FA45-4471-B58D-32727C2E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782-FA49-4E5C-8608-0677E65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199-F7F9-4581-97DF-77FB8F1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C40-EBA2-458C-8340-9CB4A9F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E46D-30F6-4923-875B-6DEBFEBD81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A32-897F-406D-94AA-5AF4705FD31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2600" y="571320"/>
            <a:ext cx="80010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ayer of Pr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Almighty God, to whom all hearts are open, all desires known and from whom no secrets are hidde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Cleanse the thoughts of our heart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by the inspiration of your Holy Spirit, that we may perfectly love you and worthily magnify your holy name: through Christ, our Lord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     </a:t>
            </a:r>
            <a:r>
              <a:rPr b="1" lang="en-US" sz="3400" spc="-1" strike="noStrike">
                <a:solidFill>
                  <a:srgbClr val="ffff00"/>
                </a:solidFill>
                <a:latin typeface="Tahoma"/>
                <a:ea typeface="Tahoma"/>
              </a:rPr>
              <a:t>Ame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51:40Z</dcterms:created>
  <dc:creator>Wullie Docherty</dc:creator>
  <dc:description/>
  <dc:language>en-US</dc:language>
  <cp:lastModifiedBy>Sam Denniss</cp:lastModifiedBy>
  <dcterms:modified xsi:type="dcterms:W3CDTF">2012-01-10T13:33:41Z</dcterms:modified>
  <cp:revision>38</cp:revision>
  <dc:subject/>
  <dc:title>All Age Prayers &amp; Responses</dc:title>
</cp:coreProperties>
</file>