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C62-D6EB-4F83-A63A-563E0EAA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03B-8247-4EFE-AC5A-35C9CE4E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B8A-3612-4C4A-89F9-673D5B85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E18-C434-47BB-92ED-8680FFAD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9765-4AED-4525-B5A8-112654AE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8C33-A22E-4473-93D6-6B63FAB5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BCC8-6711-468E-99AA-40111655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261D-E495-4B42-AD20-8B47A47B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163D-B663-42F1-9082-7B5E1AB4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F787-0FF9-40CE-9E72-C81E90F0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AD18-4443-49F2-99FC-85108EE3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770-F9F4-44EE-9FAF-431AAA76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D2D5-18C5-472A-B111-99722A05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95FC-548E-4A3C-B1D0-80A246DB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F2F6-7D38-49E7-AC86-091B0836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B9D7-AF95-4EA4-B5C4-D6008430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F39F-67DD-4945-8018-E3FE97A5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1A4-0754-4EF1-A475-141AD37C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8DB-18A2-42B8-9E2E-F61EDBDC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B44-6F1B-4219-9933-08096FEA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30A-CD54-4739-9645-1E776D09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2A3-B88E-47BB-AFAA-D8B37D58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D72-0A3F-4875-9B19-8779CB5B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873-65B6-4FCF-9317-9816D140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78D2-9FAF-4DE2-AFD3-BDC685A2763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1EEF-FA66-4E73-A4E2-FC1E183BE7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99680" y="500040"/>
            <a:ext cx="8001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The Gloria</a:t>
            </a:r>
            <a:r>
              <a:rPr b="0" lang="en-US" sz="2800" spc="-1" strike="noStrike">
                <a:solidFill>
                  <a:srgbClr val="898989"/>
                </a:solidFill>
                <a:latin typeface="Tahoma"/>
                <a:ea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ahoma"/>
              </a:rPr>
              <a:t>Glory to God in the highest,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ahoma"/>
              </a:rPr>
              <a:t>and peace to his people on earth. Lord God heavenly king, almighty God and Father, we worship you, we give you thanks, we praise you for your glory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99680" y="500040"/>
            <a:ext cx="8001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ahoma"/>
              </a:rPr>
              <a:t>Lord Jesus Christ only son of the Father, Lord God, Lamb of God, you take away the sins of the world; have mercy on us. You are seated at the right hand of the Father, receive our prayer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99680" y="500040"/>
            <a:ext cx="8286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ahoma"/>
              </a:rPr>
              <a:t>For you alone are the Holy On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ahoma"/>
              </a:rPr>
              <a:t>you alone are the Lord.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ahoma"/>
              </a:rPr>
              <a:t>You alone are the most high Jesus Christ, with the Holy Spirit, in the glory of God the Father.  Am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9:51:40Z</dcterms:created>
  <dc:creator>Wullie Docherty</dc:creator>
  <dc:description/>
  <dc:language>en-US</dc:language>
  <cp:lastModifiedBy>Sam Denniss</cp:lastModifiedBy>
  <dcterms:modified xsi:type="dcterms:W3CDTF">2012-01-10T13:35:54Z</dcterms:modified>
  <cp:revision>38</cp:revision>
  <dc:subject/>
  <dc:title>All Age Prayers &amp; Responses</dc:title>
</cp:coreProperties>
</file>