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734-96EC-49B7-8D89-77DB5FA2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D43E-47FD-4F98-9A73-6E4F4C63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CBF1-5AD7-4ED5-B9B8-69A6A1D2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C8A6-475B-493D-88CB-EDD71592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43AA-5798-487A-A159-F030FDE2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C8F5-6D0A-4415-BF25-989CF4B0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EF41-F377-442E-A565-104FF2D7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C8B8-F594-48D0-97E8-1B510439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B462-BE51-4D3E-9F5E-5B412421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C2BD-4AFA-46AE-BD68-9F510FE3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EBCE-676E-4B42-9FA6-DBA36DC6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9004-E9E5-45A3-BBC8-6AE1DDE4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3BC5-78E8-44E8-A796-09DC58C1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F4A9-6DF8-423A-A107-B522C739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3840-42EC-4BE7-8CA0-519F10EC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2339-E3FF-4A8B-8522-BAE52E53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C100-E281-4A79-ACBB-775B98A2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826-5C80-43FE-A9BE-1B893AD3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1728-2F98-4566-AFA0-6BFDF688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4B56-660B-4684-B48A-329EA36B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D704-B740-4417-8457-78C821AE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C38-A077-41ED-910C-EDDDF11B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C468-ACA7-4203-8F6E-FFD3D39C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6EAE-782F-4288-87E4-2E8E1DA7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6DA8-EBA0-47F7-AB44-467291D331D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BED3-7EAD-4268-B179-442DBD24B53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85480" y="1000080"/>
            <a:ext cx="8643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98989"/>
                </a:solidFill>
                <a:latin typeface="Tahoma"/>
                <a:ea typeface="Times New Roman"/>
              </a:rPr>
              <a:t> 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468360" y="537120"/>
            <a:ext cx="824868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The Prayer of Humble Access (2</a:t>
            </a:r>
            <a:r>
              <a:rPr b="1" lang="en-US" sz="2800" spc="-1" strike="noStrike" u="sng" baseline="30000">
                <a:solidFill>
                  <a:srgbClr val="ff0000"/>
                </a:solidFill>
                <a:uFillTx/>
                <a:latin typeface="Tahoma"/>
              </a:rPr>
              <a:t>nd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Most merciful Lord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your love compels us to come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Our hands were unclea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our hearts were unprepare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we were not fit to eat the crumbs from under your ta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But you, Lord, are the God of our salvation, and share your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bread with sinn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85480" y="1000080"/>
            <a:ext cx="8643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98989"/>
                </a:solidFill>
                <a:latin typeface="Tahoma"/>
                <a:ea typeface="Times New Roman"/>
              </a:rPr>
              <a:t> 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468360" y="475200"/>
            <a:ext cx="8248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So cleanse and feed us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with the precious body and blood of your Son,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hat he may live in us and we in him;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and that we, with the whole company of Christ,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may sit and eat in your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kingdom.  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85480" y="1000080"/>
            <a:ext cx="8643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98989"/>
                </a:solidFill>
                <a:latin typeface="Tahoma"/>
                <a:ea typeface="Times New Roman"/>
              </a:rPr>
              <a:t> 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9:51:40Z</dcterms:created>
  <dc:creator>Wullie Docherty</dc:creator>
  <dc:description/>
  <dc:language>en-US</dc:language>
  <cp:lastModifiedBy>Sam Denniss</cp:lastModifiedBy>
  <dcterms:modified xsi:type="dcterms:W3CDTF">2012-01-10T13:51:41Z</dcterms:modified>
  <cp:revision>39</cp:revision>
  <dc:subject/>
  <dc:title>All Age Prayers &amp; Responses</dc:title>
</cp:coreProperties>
</file>