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B66-FF88-4F9D-BBE6-F507F1F0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32B0-2E43-41D9-B696-D58B0909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9C82-54E3-4583-A2D1-8B4B59C0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E2FE-60AC-417B-B010-CC317C84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8132-7097-49AB-9142-4E578C35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053C-4854-4628-9422-190C8FBC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F2C3-2AF0-4531-B90F-196034EE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CD94-C4A6-4F15-8F75-C015533A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8F7D-4B1C-45C3-933E-6571EED3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6332-8D34-4784-B5F3-E3AE03E2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BC5B-6DAA-4783-80A4-81FA6D1F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517-6A54-4CD7-8F24-5610D66A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D10A-2960-405C-A2B4-41AD4C7D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A08D-53E3-4445-9DD7-9AE5A1F1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EAF3-51C1-46C5-9D67-63C7F7D9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5703-EB4E-4896-9F3E-175BE0DE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D228-5C3F-4FC2-92EC-F885CBB3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436-C562-441C-9D33-344C5A11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019-91DC-4AB8-9DC4-2DB63F2F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3D7C-4A82-40A9-BEA4-72E592E0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631-8434-489C-83F7-405F2880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27A-3181-4948-9722-0FFE870A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C77-F0E1-42D6-A1F0-4A431E6A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28AC-51F8-42B4-A178-DE1290A0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D421-8E85-4818-9600-FAE594E83D0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009A-EB00-4EA0-ADD8-9BCAE52A7EB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Prayers of Conf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r Lord Jesus Christ said: “The first commandment is this: Hear O Israel, the Lord our God is the only Lord.  You shall love the Lord your God with all your hear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all your soul, with all your mind and with all your  strength. The second is this: Love your neighbour as yourself.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re is no other commandment greater than these.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these two commandments hang all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 and the prophe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Amen. Lord have mer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"/>
          <p:cNvSpPr/>
          <p:nvPr/>
        </p:nvSpPr>
        <p:spPr>
          <a:xfrm>
            <a:off x="428760" y="510840"/>
            <a:ext cx="8215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Most merciful God, Father of our Lord Jesus Christ, we confess that we have sinned in thought word and deed.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We have not loved you with our whole heart.   We have not loved our neighbours as ourselv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"/>
          <p:cNvSpPr/>
          <p:nvPr/>
        </p:nvSpPr>
        <p:spPr>
          <a:xfrm>
            <a:off x="428760" y="507600"/>
            <a:ext cx="8143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In your mercy forgive what we have been, help us to amend what we are, and direct what we shall be: that we may do justly, love mercy and walk humbly with you our God. Am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9:51:40Z</dcterms:created>
  <dc:creator>Wullie Docherty</dc:creator>
  <dc:description/>
  <dc:language>en-US</dc:language>
  <cp:lastModifiedBy>Sam Denniss</cp:lastModifiedBy>
  <dcterms:modified xsi:type="dcterms:W3CDTF">2012-01-10T13:49:31Z</dcterms:modified>
  <cp:revision>39</cp:revision>
  <dc:subject/>
  <dc:title>All Age Prayers &amp; Responses</dc:title>
</cp:coreProperties>
</file>