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543B-67DE-4A30-9B6B-A0FFB6D31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6342-E44E-421B-A629-DC58EEF6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D0DC-A69F-4398-A7FE-8A18A194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4FE1-8B1C-4016-B55F-20BED61D5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1231-46B8-455F-9232-9B40E87C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000F-2448-44C0-A945-6E8FD1C2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BA31-957F-4693-955B-7A7D3D0B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08F9-33BD-42E7-815B-833DB0E9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8102-D059-478D-B9CA-EF211777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B905-8EBC-4B32-AE2F-45D35DCF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ED56-EBFE-448D-9133-767BE406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BF78-7089-4215-972C-26252CB9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C049-B9A6-4113-89D7-3DA454D2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B552-3717-4285-9391-E09A3FA4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A24C-D5A2-4046-916C-7ACB0680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D69F-8175-451C-8C0A-D401DFD60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2A12-D6BD-4833-BCF8-61D4C525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030C-7CC2-44FA-87FE-95E71A24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3DDF-21D3-4565-9D4C-D1EC8C7E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F185-EE04-4802-8198-B8D04BD1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FAD2-48C2-4EC7-8986-FE1DF195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DF3E-CD51-4BC6-A5ED-592A6CE8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03A1-FECC-4883-9AA6-74C41C87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07DA-4FBD-4529-BAE4-7CF2A467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9022-CB24-41C7-B9E1-9B485B998C6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288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968C-F198-4FA2-8128-DDC6C73E1DE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85480" y="1000080"/>
            <a:ext cx="86439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1"/>
          <p:cNvSpPr/>
          <p:nvPr/>
        </p:nvSpPr>
        <p:spPr>
          <a:xfrm>
            <a:off x="571680" y="1978560"/>
            <a:ext cx="8238960" cy="25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The Pe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The peace of the Lord be always with you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ahoma"/>
              </a:rPr>
              <a:t>And also with you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09:51:40Z</dcterms:created>
  <dc:creator>Wullie Docherty</dc:creator>
  <dc:description/>
  <dc:language>en-US</dc:language>
  <cp:lastModifiedBy>Sam Denniss</cp:lastModifiedBy>
  <dcterms:modified xsi:type="dcterms:W3CDTF">2012-01-10T13:38:38Z</dcterms:modified>
  <cp:revision>39</cp:revision>
  <dc:subject/>
  <dc:title>All Age Prayers &amp; Responses</dc:title>
</cp:coreProperties>
</file>