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51E-397F-4F8B-A9C6-62D92000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F69-C250-4C13-84BB-79F341A1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FC9-ACF7-4B85-9947-96ABDF6A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920-BF4F-465A-9EF7-C4195C3E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E29C-7EA8-4FD3-AF3F-ACEB5701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5520-2BE7-4783-92F0-80066C7A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034F-3DD0-4362-802F-1CD5FD29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0863-9F02-4FBA-8DAD-85575E48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5E95-CAAA-4EA9-BBD9-A332A10A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7F38-2E4D-4F89-B2BD-0FECF0CB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877D-AB39-4304-B93E-BAC453C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E5A-2C09-4E36-A4D2-3E233864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3090-E18B-4611-82F6-96D0C50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E0BD-B334-488B-9C4F-646AF26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832B-3DF7-41E8-A4F7-D7682BC7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DDBE-F4A3-467F-8825-7E6D6D2D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A40F-39C0-45E7-8659-B63D4CD3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021-14BA-4971-B87D-1FD8E875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32D-B696-41E2-A6CA-59D1500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162-1B4A-4E71-88B9-863308B6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4FA-B9CE-4D61-AA4B-D85A275F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D70-26D4-4C8D-9F41-012733C7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010-4EB1-46D2-B69E-CE84A95C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65A-6008-4B8C-BCC0-D072E32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D699-DA04-4C8E-815B-ADF343DB0C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42C-2F00-4002-BE12-A048D44625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642960" y="309960"/>
            <a:ext cx="8001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rayer of Thanksgiving after Comm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Almighty God</a:t>
            </a:r>
            <a:r>
              <a:rPr b="0" lang="en-GB" sz="3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we thank you for feeding us with the body and blood of your Son Jesus Chri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Through him we offer you our souls and bodies to be a living sacrifi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Send us out in the power of your Spirit</a:t>
            </a:r>
            <a:r>
              <a:rPr b="0" lang="en-GB" sz="3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to live and work to your praise and glory. Am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85480" y="28584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0" y="1153800"/>
            <a:ext cx="914400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The Dismiss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Go in peace to love and serve the Lo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In the name of Christ. A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9:51:40Z</dcterms:created>
  <dc:creator>Wullie Docherty</dc:creator>
  <dc:description/>
  <dc:language>en-US</dc:language>
  <cp:lastModifiedBy>Sam Denniss</cp:lastModifiedBy>
  <dcterms:modified xsi:type="dcterms:W3CDTF">2012-01-10T13:48:55Z</dcterms:modified>
  <cp:revision>39</cp:revision>
  <dc:subject/>
  <dc:title>All Age Prayers &amp; Responses</dc:title>
</cp:coreProperties>
</file>