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A50B4-D6C2-4150-9C49-77DBA6CD0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B3EA-362E-43B8-B29C-AC23777C2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05052-63B5-47C5-85A9-18C237E9A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8A868-2283-48F4-8D28-89DA55C22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B95BC-1A05-4D16-AC5F-E74C36041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5B850-66E7-42B6-967C-9E8E24F1C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65298-C9F6-426C-B9F7-303727025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823D4-294A-4B02-A2C0-CE36142D9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36598-548E-4098-B711-DAFEF060F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04C36-8075-46DF-A595-9C3708575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987D1-0C76-44B4-9D4D-1A38C9263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0A196-A821-43FE-A5B5-D3503FC31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9AEBD-E145-451F-8BEF-7D1BACACC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E32C4-51D5-4600-800D-60D51680F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99E5A-96C1-4085-826E-A7BE8AF74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C4A26-4B45-4695-A577-632E082A2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95E86-13A7-4847-ACE2-D99BECA67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2C1A-B2EF-4DD4-B001-75A3D501C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90835-9A69-4ECD-A8C0-0083E4B9C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2134E-629B-4875-B752-D6C7A6E69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BBAC-3942-4A86-97BC-D2BE7FCCD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CAE85-986C-4EDB-B768-6E0FF60B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BF65-3CE2-4B52-BE66-F3F69E61B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7C8F-3206-4AC9-863C-841B8482F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481D-C5B5-4ED6-B436-8C1666C6173C}"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0" y="0"/>
            <a:ext cx="928836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5A9B-D7E1-4FA0-BB12-BEFD663BFA4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428400" y="285840"/>
            <a:ext cx="800100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ahoma"/>
                <a:ea typeface="Times New Roman"/>
              </a:rPr>
              <a:t>The Eucharistic Prayer</a:t>
            </a: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Rectangle 1"/>
          <p:cNvSpPr/>
          <p:nvPr/>
        </p:nvSpPr>
        <p:spPr>
          <a:xfrm>
            <a:off x="428760" y="1019880"/>
            <a:ext cx="8132760" cy="408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Lord is here</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His Spirit is with u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Lift up your hearts</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We lift them to the Lor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Let us give thanks to the Lord our God</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It is right to give him thanks and pra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Rectangle 1"/>
          <p:cNvSpPr/>
          <p:nvPr/>
        </p:nvSpPr>
        <p:spPr>
          <a:xfrm>
            <a:off x="1071720" y="873000"/>
            <a:ext cx="7072200" cy="3292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ahoma"/>
                <a:ea typeface="Times New Roman"/>
              </a:rPr>
              <a:t>Breaking of the Brea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ea typeface="Times New Roman"/>
              </a:rPr>
              <a:t>Every time we eat this bread and drink this cup</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ea typeface="Times New Roman"/>
              </a:rPr>
              <a:t>We proclaim the Lord</a:t>
            </a:r>
            <a:r>
              <a:rPr b="1" lang="en-US" sz="4000" spc="-1" strike="noStrike">
                <a:solidFill>
                  <a:srgbClr val="ffff00"/>
                </a:solidFill>
                <a:latin typeface="Calibri"/>
                <a:ea typeface="Times New Roman"/>
              </a:rPr>
              <a:t>’</a:t>
            </a:r>
            <a:r>
              <a:rPr b="1" lang="en-US" sz="4000" spc="-1" strike="noStrike">
                <a:solidFill>
                  <a:srgbClr val="ffff00"/>
                </a:solidFill>
                <a:latin typeface="Tahoma"/>
                <a:ea typeface="Times New Roman"/>
              </a:rPr>
              <a:t>s death until he co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Rectangle 3"/>
          <p:cNvSpPr/>
          <p:nvPr/>
        </p:nvSpPr>
        <p:spPr>
          <a:xfrm>
            <a:off x="571680" y="500040"/>
            <a:ext cx="8072280" cy="50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t is right to praise you, Father,</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Lord of creation;</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your love, you made us for yourself.</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en we turned away, you did not reject us,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ut came to meet us in your Son</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You embraced us as your children and welcomed us to sit and eat with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Rectangle 2"/>
          <p:cNvSpPr/>
          <p:nvPr/>
        </p:nvSpPr>
        <p:spPr>
          <a:xfrm>
            <a:off x="571680" y="657000"/>
            <a:ext cx="7858080" cy="295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Christ you shared our life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at we might live in him and he in us</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He opened his arms of love upon the cross and made for all the perfect sacrifice for s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Rectangle 2"/>
          <p:cNvSpPr/>
          <p:nvPr/>
        </p:nvSpPr>
        <p:spPr>
          <a:xfrm>
            <a:off x="500040" y="-322920"/>
            <a:ext cx="7929720" cy="658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n the night he was betrayed,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t supper with his friends,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e took bread and gave you thanks,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e broke it  and gave it to them saying,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ake eat, this is my body which is given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or you. Do this in remembrance of me.</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Father we do this in remembrance of him: his body is the bread of lif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Rectangle 2"/>
          <p:cNvSpPr/>
          <p:nvPr/>
        </p:nvSpPr>
        <p:spPr>
          <a:xfrm>
            <a:off x="642960" y="339480"/>
            <a:ext cx="8001000" cy="563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t the end of supper taking the cup of wine, he gave you thanks and said: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rink this all of you: this is my blood of the new covenant which is shed for you for the forgiveness of sins: do this in remembrance of me.</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Father we do this in remembrance of him: </a:t>
            </a:r>
            <a:br>
              <a:rPr sz="4000"/>
            </a:br>
            <a:r>
              <a:rPr b="1" lang="en-US" sz="4000" spc="-1" strike="noStrike">
                <a:solidFill>
                  <a:srgbClr val="ffff00"/>
                </a:solidFill>
                <a:latin typeface="Tahoma"/>
              </a:rPr>
              <a:t>his blood is shed for al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Rectangle 2"/>
          <p:cNvSpPr/>
          <p:nvPr/>
        </p:nvSpPr>
        <p:spPr>
          <a:xfrm>
            <a:off x="571680" y="263160"/>
            <a:ext cx="7929360" cy="5028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s we proclaim his death and celebrate his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ising in glory, send your Holy Spirit that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is bread and wine may be to us  the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ody and blood of your dear Son</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As we eat and drink these holy gifts make us one in Christ, our risen Lor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Rectangle 2"/>
          <p:cNvSpPr/>
          <p:nvPr/>
        </p:nvSpPr>
        <p:spPr>
          <a:xfrm>
            <a:off x="500040" y="359640"/>
            <a:ext cx="8170920" cy="5638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The Glor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ith your whole Church throughout </a:t>
            </a:r>
            <a:br>
              <a:rPr sz="3400"/>
            </a:br>
            <a:r>
              <a:rPr b="0" lang="en-US" sz="3400" spc="-1" strike="noStrike">
                <a:solidFill>
                  <a:srgbClr val="ffffff"/>
                </a:solidFill>
                <a:latin typeface="Tahoma"/>
              </a:rPr>
              <a:t>the world we offer you this sacrifice of </a:t>
            </a:r>
            <a:br>
              <a:rPr sz="3400"/>
            </a:br>
            <a:r>
              <a:rPr b="0" lang="en-US" sz="3400" spc="-1" strike="noStrike">
                <a:solidFill>
                  <a:srgbClr val="ffffff"/>
                </a:solidFill>
                <a:latin typeface="Tahoma"/>
              </a:rPr>
              <a:t>praise and lift our voice to join the eternal song</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Holy, holy, holy Lor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God of power and migh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Heaven and earth are full of your glory</a:t>
            </a:r>
            <a:r>
              <a:rPr b="0" lang="en-GB" sz="4000" spc="-1" strike="noStrike">
                <a:solidFill>
                  <a:srgbClr val="ffff00"/>
                </a:solidFill>
                <a:latin typeface="Tahoma"/>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Hosanna in the Highe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98989"/>
                </a:solidFill>
                <a:latin typeface="Tahoma"/>
                <a:ea typeface="Times New Roman"/>
              </a:rPr>
              <a:t> </a:t>
            </a:r>
            <a:endParaRPr b="0" lang="en-US" sz="3400" spc="-1" strike="noStrike">
              <a:solidFill>
                <a:srgbClr val="000000"/>
              </a:solidFill>
              <a:latin typeface="Calibri"/>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285480" y="1000080"/>
            <a:ext cx="8643960" cy="58579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Rectangle 1"/>
          <p:cNvSpPr/>
          <p:nvPr/>
        </p:nvSpPr>
        <p:spPr>
          <a:xfrm>
            <a:off x="571680" y="315720"/>
            <a:ext cx="7983360" cy="57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ahoma"/>
                <a:ea typeface="Times New Roman"/>
              </a:rPr>
              <a:t>Our Father in heaven, hallowed be your name, your kingdom come, your will be done, on earth as in heaven. Give us today our daily bread. Forgive us our sins as we forgive those who sin against us. Lead us not into temptation but deliver us from evil. For the kingdom, the power and the </a:t>
            </a:r>
            <a:br>
              <a:rPr sz="3400"/>
            </a:br>
            <a:r>
              <a:rPr b="1" lang="en-US" sz="3400" spc="-1" strike="noStrike">
                <a:solidFill>
                  <a:srgbClr val="ffff00"/>
                </a:solidFill>
                <a:latin typeface="Tahoma"/>
                <a:ea typeface="Times New Roman"/>
              </a:rPr>
              <a:t>glory are yours, now and forever.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ahoma"/>
                <a:ea typeface="Times New Roman"/>
              </a:rPr>
              <a:t>                                   </a:t>
            </a:r>
            <a:r>
              <a:rPr b="1" lang="en-US" sz="3400" spc="-1" strike="noStrike">
                <a:solidFill>
                  <a:srgbClr val="ffff00"/>
                </a:solidFill>
                <a:latin typeface="Tahoma"/>
                <a:ea typeface="Times New Roman"/>
              </a:rPr>
              <a:t>Ame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9:51:40Z</dcterms:created>
  <dc:creator>Wullie Docherty</dc:creator>
  <dc:description/>
  <dc:language>en-US</dc:language>
  <cp:lastModifiedBy>Sam Denniss</cp:lastModifiedBy>
  <dcterms:modified xsi:type="dcterms:W3CDTF">2012-01-10T13:50:51Z</dcterms:modified>
  <cp:revision>40</cp:revision>
  <dc:subject/>
  <dc:title>All Age Prayers &amp; Responses</dc:title>
</cp:coreProperties>
</file>