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E9B-0406-4667-9606-DE08F81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36E-0C78-4F6F-A305-F3B9DDC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646-82E3-4E06-B818-99576E9A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BEF-E945-47B5-B0F7-8FD27F42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8F7-9A8F-4CAE-8094-6D80B54A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A09-CF88-4E42-BC53-A24FFA7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D17-9FBA-4075-8734-38E1ED0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8BC-F9C9-4FDA-9B7B-ACFE381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D1DB-5414-472E-9290-8E53725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E8E-E7A2-4A2F-AA6E-1221993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CA36-A054-4FBD-8F74-562B471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14E-8E0A-4C4B-9365-A91036CA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342-4F4D-4E44-B739-5302253E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18F8-8140-4098-8D4F-B772358D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C922-C9E2-47A4-B771-9243A280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F7B3-D3E4-44C9-B4E6-80278F2E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6EFF-280C-4496-BFCE-9B924DD3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C12-5FF1-4F24-B96A-3F211AC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C15-D3FE-4E1A-B92D-13DDF24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A35-9EE2-4032-99C2-0A691CE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083-7D7E-4514-958A-A196CC3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F80-2408-4584-8110-99559A2C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06D-C404-4E5E-ADB8-8EA08CC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FDC-646C-4FF7-A9CE-23C4047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7CF-B094-4D21-BE78-A1540C9459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21A-8189-40F0-B681-778BE2315D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642960" y="81360"/>
            <a:ext cx="800100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ayer of Thanksgiving after Communion (2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Tahoma"/>
              </a:rPr>
              <a:t>nd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Father of all,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we give you thanks and praise,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that when we were still far off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you met us in your Son and brought us home.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Dying and living, he declared your love,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gave us grace, and opened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the gate of glo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642960" y="857160"/>
            <a:ext cx="8001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May we who share Christ’s body live his risen life;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we who drink his cup bring life to others;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we whom the Spirit lights give light to the world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642960" y="598320"/>
            <a:ext cx="8001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Keep us firm in the hope you have set before us,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so we and all your children shall be free,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and the whole earth live to praise your name;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through Christ our Lord.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Ame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52:14Z</dcterms:modified>
  <cp:revision>39</cp:revision>
  <dc:subject/>
  <dc:title>All Age Prayers &amp; Responses</dc:title>
</cp:coreProperties>
</file>