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26E-F5EE-4EA7-B334-97846045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90D-9829-4A72-A59A-434B7FB5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68D-79AA-4C56-B1AA-855153D3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B298-A0FF-4437-93D7-146B3AB4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8B9E-717E-4911-A39D-00B5D946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38F-A02C-410F-BB6C-68D04237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4AE4-5749-486B-A641-FDB05E23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FDCC-C3AE-4C31-A294-CDBC136B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1050-305D-489F-A761-E617B3E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2E02-863C-470D-A989-F85886FC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00A5-A10C-4E58-9967-F1E72FC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D6C-C04F-4775-8CEE-53FD083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6EBD-837E-48D4-9512-C6E3BADB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3AB5-71CE-4DFA-8CF8-0AB88D8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993-6382-49B5-9D1B-A4341AFC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076C-A38F-42C0-9292-7321E47C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6572-4348-49BB-BAB0-AC42110F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317-A702-470E-AC9B-08CAF606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85D-F1C3-4152-B4B1-438E8F0D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6E5-3B27-4F1F-9675-9F55422E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F86-56C6-44E5-BA7A-160E48AE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CF6-AA32-496F-BFF8-F9D20EF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237-1B00-41AF-9B4C-7566539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49E-4658-4BEC-B5B8-CBD78BD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687-D3CE-4B48-9595-217049149E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9546-0D4A-4427-9CDD-8E8765AEA3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1680" y="214200"/>
            <a:ext cx="8215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he Creed</a:t>
            </a:r>
            <a:r>
              <a:rPr b="0" lang="en-US" sz="3400" spc="-1" strike="noStrike">
                <a:solidFill>
                  <a:srgbClr val="898989"/>
                </a:solidFill>
                <a:latin typeface="Tahoma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428760" y="1185120"/>
            <a:ext cx="815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 believe in God the Father, from whom every family in heaven and on earth is named.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 believe in God the Son, who lives in our hearts through faith and fills us with his love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28760" y="874800"/>
            <a:ext cx="815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 believe in God the Holy Spirit, who strengthens us with power from on high.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 believe in one God;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ather Son and Holy Spirit. A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50:02Z</dcterms:modified>
  <cp:revision>40</cp:revision>
  <dc:subject/>
  <dc:title>All Age Prayers &amp; Responses</dc:title>
</cp:coreProperties>
</file>